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36C-0B03-402B-BB6B-B73AF5BD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B24-0C2B-4B3C-8EA4-E6512E12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4EA-D5BB-47DE-AA98-EBA25428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680-7E1A-4C00-947F-B8902614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4AB8-5768-466E-9B22-273F02BE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5B4E-CE2D-4EE7-8711-C6D8EA83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20D4-F7B2-489D-86FA-42F54546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D274-E76B-41CD-BDE5-2DA734DC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EC3E-5D57-4045-B50D-0B2FCDA6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4767-F1B7-470F-A518-5FDF6B52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01F7-A843-4D13-9A69-2D068DEF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413-B0D4-4BF2-8FA0-7C00FE43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9157-4713-45E6-9EF1-2F824A23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8B94-EB37-4442-83E2-0E8A04E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413A-7E8F-465D-9D4C-27792955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C366-E896-4C10-9E95-B221D9C4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05A1-6BE9-4A55-A3CE-EF84C3C6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F72-7833-426A-97AA-EF580DA1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DA8-B980-4486-80DC-825249E1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5369-EA36-47CE-9048-1E67951E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F3E-70BC-42C8-AD25-D0E0CC6C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3B5-A4B2-46EF-B719-29ED55BF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C0E-2BDD-4C39-B43A-4E55FCC0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F7A-4BB5-4E64-AC9A-73B15679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3E36-465C-4938-BE01-B41E0B72F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CECA-DC2D-4217-992C-2BBD57165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Math Flash</a:t>
            </a:r>
            <a:br>
              <a:rPr sz="5400"/>
            </a:b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Place Value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By Monica Yuskait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574360" y="1828800"/>
            <a:ext cx="396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973,10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80240" y="3909960"/>
            <a:ext cx="64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seventy-thre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, one hundred 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619640" y="1828800"/>
            <a:ext cx="599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384,133,472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7280" y="3909960"/>
            <a:ext cx="8069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ree hundred eighty-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hundred thirty-thre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hundred seventy-tw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84000" y="190512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1,874,304,039,270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505320"/>
            <a:ext cx="900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ne trillion, eight hundred sev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billion, three hundred 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r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wo hundred sevent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5560" y="3505320"/>
            <a:ext cx="8536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ight hundred twenty-nine thousand,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nine hundred fiv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member that each period ha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ree place values within the perio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6000">
            <a:off x="-30528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6000">
            <a:off x="1294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6000">
            <a:off x="2970720" y="2667240"/>
            <a:ext cx="3124080" cy="14464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6000">
            <a:off x="472356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6000">
            <a:off x="6476040" y="2667600"/>
            <a:ext cx="3124080" cy="144612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ens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       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8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9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350532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51480" y="3581280"/>
            <a:ext cx="34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4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9720" y="3581280"/>
            <a:ext cx="207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9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1905120"/>
            <a:ext cx="48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65480" y="358128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6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5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912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938320" y="2057400"/>
            <a:ext cx="36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06640" y="407520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4,367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5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654,8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80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7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2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86080" y="3581280"/>
            <a:ext cx="452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thousand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2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54,789,103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560" y="3581280"/>
            <a:ext cx="411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undred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34,789,10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35240" y="3581280"/>
            <a:ext cx="30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 millio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place value is the 3 in this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190512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ecff"/>
                </a:solidFill>
                <a:latin typeface="Tahoma"/>
              </a:rPr>
              <a:t>264,789,134</a:t>
            </a: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13640" y="3581280"/>
            <a:ext cx="12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en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1905120"/>
            <a:ext cx="60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Ninety thousand, four hundred eigh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59240" y="3767040"/>
            <a:ext cx="227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90,408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standar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9810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even million, twenty-two thousand, two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2960" y="376704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2,2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is number in expanded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3049560" y="2286000"/>
            <a:ext cx="32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7,021,500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00" y="4038480"/>
            <a:ext cx="786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7,000,000 + 20,000 + 1,000 + 500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200" y="342900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000 + 300 + 60 + 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expande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82880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6,80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1160" y="3429000"/>
            <a:ext cx="620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50,000 + 6,000 + 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80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standa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37339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823</a:t>
            </a:r>
            <a:r>
              <a:rPr b="1" lang="en-US" sz="96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25200" y="1981080"/>
            <a:ext cx="725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,000 + 800 + 20 + 3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the word form of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540600" y="182880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4,367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280" y="3581280"/>
            <a:ext cx="85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four thousand, three hundr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sixty-seve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are the periods of this number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97400" y="487692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6000">
            <a:off x="-38088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12952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895480" y="2742840"/>
            <a:ext cx="31240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464832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6400800" y="2743200"/>
            <a:ext cx="312408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to read large numbers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97400" y="5486400"/>
            <a:ext cx="759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ahoma"/>
              </a:rPr>
              <a:t>684,367,671,690,492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6000">
            <a:off x="74520" y="3731760"/>
            <a:ext cx="221004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r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7524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B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352680" y="3733560"/>
            <a:ext cx="220968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illion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50673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ousand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896160" y="3772080"/>
            <a:ext cx="2286000" cy="1295280"/>
          </a:xfrm>
          <a:prstGeom prst="rect">
            <a:avLst/>
          </a:prstGeom>
          <a:solidFill>
            <a:srgbClr val="cc99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On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09480"/>
            <a:ext cx="9144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Read the numbers before the comma as if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you were reading in the one’s column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Say the period you are in when you get to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the comma except for the one’s period.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 this nu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163960" y="1828800"/>
            <a:ext cx="483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ahoma"/>
              </a:rPr>
              <a:t>4,371,024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840" y="3909960"/>
            <a:ext cx="797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ur million, three hundred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venty-one thousand, twenty-fou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5T04:49:56Z</dcterms:created>
  <dc:creator>Monica/Bob Yuskaitis</dc:creator>
  <dc:description/>
  <dc:language>en-US</dc:language>
  <cp:lastModifiedBy>Monica/Bob Yuskaitis</cp:lastModifiedBy>
  <dcterms:modified xsi:type="dcterms:W3CDTF">2000-02-06T15:10:57Z</dcterms:modified>
  <cp:revision>7</cp:revision>
  <dc:subject/>
  <dc:title>Math Flash</dc:title>
</cp:coreProperties>
</file>